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093-9E57-4B5F-BA67-CF48036D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02D-657E-47D1-BC81-4121FE4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5F1-C4B2-4727-9B7D-C86BC9DC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4D0-9CF5-4DCF-924F-101F901A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C874-98C4-4059-917F-450B3B58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BB2-1ED2-402E-8C5D-A2BC252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6D1-5297-4C8B-B23B-80D3CD2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15FD-B29F-432C-A160-07F257E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842B-2F7F-4544-832F-2292A5BC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8CA8-7473-4629-B1EC-3CAF7ED8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E663-3E72-440B-A715-0D3EA18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0B5-3C4D-47E4-9207-BCB3C63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325-8372-4A0F-BE76-764E06B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E5F-2B79-4512-AB8F-B9AA756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007D-AD69-4A8E-933D-0E75D76A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E32B-92EA-4B1C-BC9D-8F1EC70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AEBF-09A6-446F-A56E-543B3201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B4D-134D-4BA6-9BBF-A3A5717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784-AA71-4A0D-908D-74C1EC7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70B-1AE6-4A5B-98F9-14674C21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821-024F-4EE9-AA06-08E44F0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775-39DF-43FD-91F8-2DCBA45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0BE-90DE-464C-9C19-19FC977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2A0-E019-40AF-96DE-5F00D2D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0E60-F705-4CB1-AE3E-0D6BBA07F0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12DF-BAE6-4240-9EE8-BA2F87F779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e Cover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above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Guideli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an employer a lot abou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ales 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your skills a good match for the employer /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esent all of your experience here – let the resume d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one or two of you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vity =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ep the Cover Letter Brie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nerally compose the letter in four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e yourself and explain why you are wri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y out your key skills and accomplish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lain why you want to work for the company / attend the scho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nk the reader – invite contact and lay out the follow-up pla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ep in min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personal – don’t use cookie cutter greetings “To Whom It May Concern” – try to address to a specific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to highlight your strongest, most applicabl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learly and concisely – this should not be more than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re to keep in min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follow-up – how can you be reac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proofread carefully – some employers will throw a letter away if there are typographical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hr.dop.wa.gov/jobtips/cover.letter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8:12:07Z</dcterms:created>
  <dc:creator>jvanengen</dc:creator>
  <dc:description/>
  <dc:language>en-US</dc:language>
  <cp:lastModifiedBy>jvanengen</cp:lastModifiedBy>
  <dcterms:modified xsi:type="dcterms:W3CDTF">2009-07-30T18:24:14Z</dcterms:modified>
  <cp:revision>2</cp:revision>
  <dc:subject/>
  <dc:title>Creating the Cover Letter</dc:title>
</cp:coreProperties>
</file>